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WHOOSH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9A0-AA77-46CA-9BD5-0BAF4E2C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210-5D8A-4B30-90C3-5B89BD7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042-B802-4D34-8AFC-E33DDA96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5D7-BDA1-48FC-8A25-8CF66212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0D1-7494-4E29-B5D1-A394715F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0779-43B2-48C4-8AC8-D86B87B6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A1B-B9B5-4781-8008-4D25C3C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1714-7A85-4E9E-87E9-C8D4246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A936-FD77-4212-80F0-FAA4F46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A3B-BF6D-4BD2-876C-9D9DC0A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B73-2CAD-4A4C-B95F-2B95D30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B2C-5F58-4133-9AE2-BCD3012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F74-F83B-4727-8941-86DE5DE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3AD6-00E9-4770-9286-0C2E86E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4DCF-9C8D-483D-92A8-ABC0D50F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6328-C543-4819-990E-EF7E47C7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90B-8DE7-4095-9B09-CF0D07D4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CCC-ECEA-43ED-93EE-96BDC15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6CD-0025-49EB-A0D6-FA8D677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5A8-F6D2-45B8-A52A-EE81893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C09-E244-4713-954A-60B2E16A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55C-8EAD-4DBF-B7E4-6395548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439-DAB1-4B8C-A1C3-8E85C0C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545-E0BD-4A48-8DBA-5BB5F6E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A33-AB6B-4529-B554-0A9642C4A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405A-F42B-46A1-8CB3-FC0839BAC30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uplace.com/cgi-bin/schtemplate.cgi?template=/math/hmm/models/tm_popup.thtml&amp;grade=3&amp;chapter=15&amp;lesson=6&amp;title=Solid+Figures&amp;tm=tmfd1506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1600200" y="1066680"/>
            <a:ext cx="5943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id Fig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ynthia Stanfiel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S Mincho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Arial Rounded MT Bold"/>
              </a:rPr>
              <a:t>What are Solid Figures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lick here to discover the answer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olid figure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286000" y="2057400"/>
            <a:ext cx="618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00160" y="6203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ach Extended"/>
              </a:rPr>
              <a:t>Interactive Les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here to view the interactive less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MCBD05091_0000[1]"/>
          <p:cNvPicPr/>
          <p:nvPr/>
        </p:nvPicPr>
        <p:blipFill>
          <a:blip r:embed="rId1"/>
          <a:stretch/>
        </p:blipFill>
        <p:spPr>
          <a:xfrm>
            <a:off x="4917960" y="3236760"/>
            <a:ext cx="3780000" cy="344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3886200" y="4343400"/>
            <a:ext cx="304920" cy="1066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572000" y="4343400"/>
            <a:ext cx="304920" cy="1066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15000" y="990720"/>
            <a:ext cx="38088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8006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781680" y="19051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95288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5181480" y="4267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391520" y="41148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495680" y="541008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3733920" y="5410080"/>
            <a:ext cx="5331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1055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400800" y="52578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752480" y="22860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solid figures in the rob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228564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1676520" y="4572000"/>
            <a:ext cx="3808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3886200" y="838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8"/>
          <p:cNvSpPr/>
          <p:nvPr/>
        </p:nvSpPr>
        <p:spPr>
          <a:xfrm rot="14015400">
            <a:off x="2779560" y="2859120"/>
            <a:ext cx="611280" cy="129384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3276720" y="2590920"/>
            <a:ext cx="2205000" cy="1828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20"/>
          <p:cNvSpPr/>
          <p:nvPr/>
        </p:nvSpPr>
        <p:spPr>
          <a:xfrm rot="19333800">
            <a:off x="5409720" y="2895120"/>
            <a:ext cx="533520" cy="13716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4191120" y="2057400"/>
            <a:ext cx="457200" cy="7621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3962520" y="1752480"/>
            <a:ext cx="9144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04920" y="6095880"/>
            <a:ext cx="22860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2120" y="6095880"/>
            <a:ext cx="9144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1905120" y="6095880"/>
            <a:ext cx="22860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2362320" y="6095880"/>
            <a:ext cx="11430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3809880" y="6095880"/>
            <a:ext cx="30492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4419720" y="6095880"/>
            <a:ext cx="9903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638680" y="6095880"/>
            <a:ext cx="30492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6095880" y="6095880"/>
            <a:ext cx="9144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7162920" y="6095880"/>
            <a:ext cx="30456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7620120" y="6095880"/>
            <a:ext cx="1523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76320" y="2666880"/>
            <a:ext cx="2057400" cy="1067040"/>
          </a:xfrm>
          <a:prstGeom prst="wedgeRectCallout">
            <a:avLst>
              <a:gd name="adj1" fmla="val -35800"/>
              <a:gd name="adj2" fmla="val 6502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304920" y="2819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holBleeker-Regular"/>
              </a:rPr>
              <a:t>Click the mouse for the answ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37"/>
          <p:cNvSpPr/>
          <p:nvPr/>
        </p:nvSpPr>
        <p:spPr>
          <a:xfrm>
            <a:off x="0" y="3886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Activity from NGF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Figures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9" descr="Image5"/>
          <p:cNvPicPr/>
          <p:nvPr/>
        </p:nvPicPr>
        <p:blipFill>
          <a:blip r:embed="rId1"/>
          <a:stretch/>
        </p:blipFill>
        <p:spPr>
          <a:xfrm>
            <a:off x="4952880" y="4495680"/>
            <a:ext cx="373392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con Learning Center – Solid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Place at www.eduplac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elwood School District – C. Dav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2:42:59Z</dcterms:created>
  <dc:creator>ckeclass</dc:creator>
  <dc:description/>
  <dc:language>en-US</dc:language>
  <cp:lastModifiedBy>kim.nelson Nelson</cp:lastModifiedBy>
  <dcterms:modified xsi:type="dcterms:W3CDTF">2012-01-12T03:59:30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